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8B44-B01F-47CC-A891-B93A4F92C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1EA5-ED34-464B-9A4B-8B0D9BDC3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020A-55F7-42B2-8B50-1242B10EF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C155-4AAB-4665-A460-397B7C1C9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F695-9510-426E-9A7A-3EE8D2AFF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0F75-C806-4461-B018-3124E9F42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9276-1040-4C1F-9DA5-1CCDF9C99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27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1537-6798-4F44-BBF7-F1190140D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9E44-1E6A-4BDF-B943-0980C1314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B0B9-556D-4BB6-8114-636DC4D8E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AD43-0C50-44CE-8581-47F43D9AB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1598-1C77-41DB-9447-92829B05B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EDB1-F0F1-4193-B0F0-634C6718A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BD4B-3D3E-4607-8943-669552B6A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B043-6F70-4B63-8316-2AA792765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FBA3-4958-429D-A038-3A784BE1D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AB78-BB40-4FE5-AC25-FF99E8D0A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69D9-C5F7-4D87-A8C4-89E0BBC39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240B-2756-4F08-A63E-F4BBFDE13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29BE-556A-4CBF-985D-DEB05BE50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4A4F-391A-49D7-8B26-3364F919D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582D-3AC4-4F70-BF07-2BD412852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CDBE-F296-4717-84E7-9B5BB51F0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92AE-4BB4-46FE-AF81-3E3631318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0897-E783-4E20-B8D4-6D123183A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DCC2-8EBF-4041-84F9-946F370CF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4436-4968-4375-90B2-93F81C4E4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F638-A9F6-4865-9A97-D058A5212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107B-4C38-48CF-8C82-F53C69C42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C8AF-C0F3-4F7E-92B0-0E33610B4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5A27-8C93-47E2-86E9-86C41AA70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EFB7-42C1-4759-B5A7-2D2BE1F36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A8FB-77AB-41B9-A601-80B17A3F9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AC1F-8C87-4889-B16B-C432C7F43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C2DF-E8EF-4CB8-B20D-0560E61A9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7626-0B87-4B71-999F-B3EEA40BD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B14A-7BA9-4FE3-97FF-B0BF66E4F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B252-682E-4804-AA51-7A65776AD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6C86-7E38-413D-B92E-C2DE63873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B15E-AFFC-4098-823A-1DC4E24D2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28F7-BB86-412D-BBC9-DAC22EB3F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5F94-62B5-4A77-BA42-E4B0B7A43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4DCF-31BA-4D89-A89E-16786046B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DC8-DBE2-4886-98BF-5CFC9616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615-3878-4880-9254-1BC20914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A15-7919-4691-8AE1-F6B602DC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E9B-04C5-454E-9EC1-48034F49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6F1-CF25-4212-8931-E32B8C39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1E7-CA96-471E-B4A4-6FB6FB61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DE1-68CA-4938-9454-E351EFAC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88B-35F8-4EC3-8C9F-20470216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4F4-0A32-453B-B221-D11E439E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47A-CC56-4B4E-BB7B-45610109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5BF-1FC0-4208-B894-F32B53FC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F97-1FEE-42E2-BB59-DB342AB5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1C25-52AD-4399-88AF-BFD51B052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learningthroughlistening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accessible-devices.com/electronicbooks.html" TargetMode="External"/><Relationship Id="rId2" Type="http://schemas.openxmlformats.org/officeDocument/2006/relationships/hyperlink" Target="http://www.afb.org/Section.asp?SectionID=4&amp;TopicID=222&amp;DocumentID=371" TargetMode="External"/><Relationship Id="rId3" Type="http://schemas.openxmlformats.org/officeDocument/2006/relationships/hyperlink" Target="http://www.bridges4kids.org/articles/12-03/Bookshare12-03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nimas.cast.org/about/resources/dtb.html" TargetMode="External"/><Relationship Id="rId2" Type="http://schemas.openxmlformats.org/officeDocument/2006/relationships/hyperlink" Target="http://nimas.cast.org/about/resources/accessible-textboo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otential of Electronic Books for Students with Visual Impair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2840" y="426672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gust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Bookshare_v1.gif"/>
          <p:cNvPicPr/>
          <p:nvPr/>
        </p:nvPicPr>
        <p:blipFill>
          <a:blip r:embed="rId1"/>
          <a:stretch/>
        </p:blipFill>
        <p:spPr>
          <a:xfrm>
            <a:off x="380880" y="1143000"/>
            <a:ext cx="2087640" cy="7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RFBD.gif"/>
          <p:cNvPicPr/>
          <p:nvPr/>
        </p:nvPicPr>
        <p:blipFill>
          <a:blip r:embed="rId2"/>
          <a:stretch/>
        </p:blipFill>
        <p:spPr>
          <a:xfrm>
            <a:off x="380880" y="5105520"/>
            <a:ext cx="200052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5" descr=""/>
          <p:cNvPicPr/>
          <p:nvPr/>
        </p:nvPicPr>
        <p:blipFill>
          <a:blip r:embed="rId3"/>
          <a:stretch/>
        </p:blipFill>
        <p:spPr>
          <a:xfrm>
            <a:off x="7070760" y="622440"/>
            <a:ext cx="1994040" cy="1145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roject Gutenberg.jpg"/>
          <p:cNvPicPr/>
          <p:nvPr/>
        </p:nvPicPr>
        <p:blipFill>
          <a:blip r:embed="rId4"/>
          <a:stretch/>
        </p:blipFill>
        <p:spPr>
          <a:xfrm>
            <a:off x="3886200" y="457200"/>
            <a:ext cx="157788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AccessableBookCollection.jpg"/>
          <p:cNvPicPr/>
          <p:nvPr/>
        </p:nvPicPr>
        <p:blipFill>
          <a:blip r:embed="rId5"/>
          <a:stretch/>
        </p:blipFill>
        <p:spPr>
          <a:xfrm>
            <a:off x="6629400" y="4191120"/>
            <a:ext cx="1781280" cy="143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gital Audio Book P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ardware Play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.g., Plextalk PTN1Pro, Plextalk PTR2, Victor Reader Classic, Victor Reader Classic+, Victor Reader Vibe, Victor Reader Wave, Victor Reader Str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oftware Op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.g., Victor Reader Soft (Windows and Mac), eClipseReader, EaseReader, FS Re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DAs (digital book read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.g., BrailleNote, PacMate, Maest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victor reader stream nfb org.jpg"/>
          <p:cNvPicPr/>
          <p:nvPr/>
        </p:nvPicPr>
        <p:blipFill>
          <a:blip r:embed="rId1"/>
          <a:stretch/>
        </p:blipFill>
        <p:spPr>
          <a:xfrm>
            <a:off x="7848720" y="5181480"/>
            <a:ext cx="914400" cy="139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-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ectronic text files can be converted into braille and embossed, or can be used with a notetaker without being converted into brail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xt files can be opened and read on a computer with a screen read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xt files can be read with refreshable braille displays or screen magnification softw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-text can be transformed and tagged for structure and mea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ebook ifixtimemachines com.jpg"/>
          <p:cNvPicPr/>
          <p:nvPr/>
        </p:nvPicPr>
        <p:blipFill>
          <a:blip r:embed="rId1"/>
          <a:stretch/>
        </p:blipFill>
        <p:spPr>
          <a:xfrm>
            <a:off x="990720" y="228600"/>
            <a:ext cx="1904760" cy="175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ercial e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duced for mass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ually require a specialized play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ten inaccessible due to DRM sche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ny are dedicated readers;  some are no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opular rea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mazon Kind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ny Portable Reader se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Jetbook Re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anklin eBookM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Amazon Kindle.jpg"/>
          <p:cNvPicPr/>
          <p:nvPr/>
        </p:nvPicPr>
        <p:blipFill>
          <a:blip r:embed="rId1"/>
          <a:stretch/>
        </p:blipFill>
        <p:spPr>
          <a:xfrm>
            <a:off x="5867280" y="3809880"/>
            <a:ext cx="2374920" cy="2667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pyright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“…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not an infringement of copyright for an authorized entity to reproduce or to distribute copies of a previously published, nondramatic literary work if such copies are reproduced or distribute in specialized formats exclusively for use by blind or other persons with disabilities.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ection 17 U.S.C . § 121 of Copyright La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pecialized forma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i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pr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opyright commons wikimedia org.jpg"/>
          <p:cNvPicPr/>
          <p:nvPr/>
        </p:nvPicPr>
        <p:blipFill>
          <a:blip r:embed="rId1"/>
          <a:stretch/>
        </p:blipFill>
        <p:spPr>
          <a:xfrm>
            <a:off x="57913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ligibility Requirements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ownload eBoo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Books in the Public Domain can usually be freely downloaded by any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w, if any, eligibility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pyrighted books in specialized formats are available only to individuals with qualifying print disabil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horized ent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provide books in specialized formats to eligible individu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IMAS and NIM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ational Instructional Materials Accessibility Standard  (NIMA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publishing standard for creating specialized format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nt instructional materia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for students with dis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requirement of the Individuals with Disabilities Education Act (ID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ational Instructional Materials Accessibility Center (NIMAC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repository for NIMAS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ly K-12 students with documented print disabilities as defined under the U.S. Copyright Law as Amended and have IEPs are eligible to receive NIMAC-sourced books that have been converted into specialized formats (braille, large print, digital text, and audi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NIMAS cast org.jpg"/>
          <p:cNvPicPr/>
          <p:nvPr/>
        </p:nvPicPr>
        <p:blipFill>
          <a:blip r:embed="rId1"/>
          <a:stretch/>
        </p:blipFill>
        <p:spPr>
          <a:xfrm>
            <a:off x="380880" y="533520"/>
            <a:ext cx="1541520" cy="533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nimac nimas cast org.jpg"/>
          <p:cNvPicPr/>
          <p:nvPr/>
        </p:nvPicPr>
        <p:blipFill>
          <a:blip r:embed="rId2"/>
          <a:stretch/>
        </p:blipFill>
        <p:spPr>
          <a:xfrm>
            <a:off x="7086600" y="990720"/>
            <a:ext cx="1681200" cy="4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ent Eligibility and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IMAC's Limitation of Use Agre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s certified by competent authority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ind or whose visual disability prevents the reading of standard printed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able to read or unable to use standard printed material as a result of physical lim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ing a reading disability resulting from organic dysfunction and of sufficient severity to prevent their reading printed material in a normal m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urces of Electronic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ookshare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B&amp;D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LS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ject Gutenbe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ow Vision Class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H Louis Database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cessible Book Collection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lex Catalogue of Electronic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raille Book Files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59984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assic Re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d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national Electronic Braille Book Libra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ibrivo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umble Read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umble Talking 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4litera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ge by Page 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iflolibros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930040" y="6095880"/>
            <a:ext cx="59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Requires documentation of print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148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okshare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online library of accessible media for readers with print dis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,000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,000 school groups and organizational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x 40,000 titles in the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undreds of new books added every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hare’s philosophy: Ease of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s must qualif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Bookshare_v1.gif"/>
          <p:cNvPicPr/>
          <p:nvPr/>
        </p:nvPicPr>
        <p:blipFill>
          <a:blip r:embed="rId1"/>
          <a:stretch/>
        </p:blipFill>
        <p:spPr>
          <a:xfrm>
            <a:off x="609480" y="380880"/>
            <a:ext cx="2762280" cy="962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5029200" y="59436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ww.bookshar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tegories of Pub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ade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jority of top titles avail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w York Times best sellers, series, coll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wberry awards, recommended student reading li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000 Spanish language tit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ildren’s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xt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eriodic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50 national and regional newspapers and magaz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Bookshare_v1.gif"/>
          <p:cNvPicPr/>
          <p:nvPr/>
        </p:nvPicPr>
        <p:blipFill>
          <a:blip r:embed="rId1"/>
          <a:stretch/>
        </p:blipFill>
        <p:spPr>
          <a:xfrm>
            <a:off x="457200" y="609480"/>
            <a:ext cx="1312920" cy="4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an Electronic Book (eBook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y book-length publication that requires access through electronic me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books can be read online, downloaded and read on a computer, or downloaded and read on a dedicated hardware dev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ebook theebooksale com.jpg"/>
          <p:cNvPicPr/>
          <p:nvPr/>
        </p:nvPicPr>
        <p:blipFill>
          <a:blip r:embed="rId1"/>
          <a:stretch/>
        </p:blipFill>
        <p:spPr>
          <a:xfrm>
            <a:off x="6324480" y="41911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ccess to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stening to them (speech synthesiz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ewing them enlarged (on a computer screen or printed 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eing and hearing the words at the sa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ing braille (digital or hardco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Bookshare_v1.gif"/>
          <p:cNvPicPr/>
          <p:nvPr/>
        </p:nvPicPr>
        <p:blipFill>
          <a:blip r:embed="rId1"/>
          <a:stretch/>
        </p:blipFill>
        <p:spPr>
          <a:xfrm>
            <a:off x="609480" y="380880"/>
            <a:ext cx="2762280" cy="962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ookshar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DAISY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ownload DAISY books directly from web si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ookshare DAISY books contain only text, with no prerecorded aud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avigation is done by paragraph or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n be read us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aisy read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reen magnification  softwa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reen reading softw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an/read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Bookshare_v1.gif"/>
          <p:cNvPicPr/>
          <p:nvPr/>
        </p:nvPicPr>
        <p:blipFill>
          <a:blip r:embed="rId1"/>
          <a:stretch/>
        </p:blipFill>
        <p:spPr>
          <a:xfrm>
            <a:off x="7620120" y="762120"/>
            <a:ext cx="1312920" cy="4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okshare and BRF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wnload contracted digital braille files directly from web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handheld eBook readers, braille notetakers, or refreshable braille displ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wnload books to embos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Bookshare_v1.gif"/>
          <p:cNvPicPr/>
          <p:nvPr/>
        </p:nvPicPr>
        <p:blipFill>
          <a:blip r:embed="rId1"/>
          <a:stretch/>
        </p:blipFill>
        <p:spPr>
          <a:xfrm>
            <a:off x="380880" y="685800"/>
            <a:ext cx="109404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ducer of accessible audio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rves more than 185,000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must qualify for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6,000 digital titles in all major academic and vocational subject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FB&amp;D books require specialized pla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learningthroughlistening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RFBD.gif"/>
          <p:cNvPicPr/>
          <p:nvPr/>
        </p:nvPicPr>
        <p:blipFill>
          <a:blip r:embed="rId2"/>
          <a:stretch/>
        </p:blipFill>
        <p:spPr>
          <a:xfrm>
            <a:off x="7086600" y="380880"/>
            <a:ext cx="1670040" cy="922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476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rding for the Blind &amp; Dyslexic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334120" y="5943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ww.rfbd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xt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iograph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matic coll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celerated rea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gh interest-low vocabul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nfiction in content a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opular fi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ward win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obbies and recre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3" descr="RFBD.gif"/>
          <p:cNvPicPr/>
          <p:nvPr/>
        </p:nvPicPr>
        <p:blipFill>
          <a:blip r:embed="rId1"/>
          <a:stretch/>
        </p:blipFill>
        <p:spPr>
          <a:xfrm>
            <a:off x="6400800" y="1523880"/>
            <a:ext cx="2000160" cy="1105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tegories of Audio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uman voice professional quality recor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udent gets the book cover to cover not just the text (table of contents, footnotes, glossar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s, charts and illustrations described by the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dioPlus CDs are in a fully navigable DAISY form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RFBD.gif"/>
          <p:cNvPicPr/>
          <p:nvPr/>
        </p:nvPicPr>
        <p:blipFill>
          <a:blip r:embed="rId1"/>
          <a:stretch/>
        </p:blipFill>
        <p:spPr>
          <a:xfrm>
            <a:off x="6629400" y="304920"/>
            <a:ext cx="2000160" cy="1104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tures of RFB&amp;D Audio Book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dioAc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B&amp;D’s new downloadable MP3 audiobook fi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dioPl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AISY formatted audio text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quire specialized software or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dioPlus 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MAS converted 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gh quality synthesized voice with human descrip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xt is available with VRSoft 2.0 softwa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3" descr="RFBD.gif"/>
          <p:cNvPicPr/>
          <p:nvPr/>
        </p:nvPicPr>
        <p:blipFill>
          <a:blip r:embed="rId1"/>
          <a:stretch/>
        </p:blipFill>
        <p:spPr>
          <a:xfrm>
            <a:off x="6858000" y="457200"/>
            <a:ext cx="1517760" cy="838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RFB&amp;D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ational Library Service for Blind and Physically Handicapped (NL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761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free national library program of braille and recorded materi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ded annually by Con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must qualify for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ects and produces full-length books and magazines in braille and recorded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730760" y="586728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loc.gov/nl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NLS  flying blind com.jpg"/>
          <p:cNvPicPr/>
          <p:nvPr/>
        </p:nvPicPr>
        <p:blipFill>
          <a:blip r:embed="rId1"/>
          <a:stretch/>
        </p:blipFill>
        <p:spPr>
          <a:xfrm>
            <a:off x="838080" y="5638680"/>
            <a:ext cx="1524240" cy="838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tegories of Pub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stsellers, biographies, fiction, and how-to books are most pop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gaz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U.S. News and World Report, National Geographic, Consumer Reports, Good Housekeeping, Sports Illustrated for K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sic scores and 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eign languag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NLS  flying blind com.jpg"/>
          <p:cNvPicPr/>
          <p:nvPr/>
        </p:nvPicPr>
        <p:blipFill>
          <a:blip r:embed="rId1"/>
          <a:stretch/>
        </p:blipFill>
        <p:spPr>
          <a:xfrm>
            <a:off x="7467480" y="609480"/>
            <a:ext cx="1295640" cy="71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ccess to Books and Materi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braille (Web-Brai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rrated recorded audiocass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Talking 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rge 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 Brai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NLS  flying blind com.jpg"/>
          <p:cNvPicPr/>
          <p:nvPr/>
        </p:nvPicPr>
        <p:blipFill>
          <a:blip r:embed="rId1"/>
          <a:stretch/>
        </p:blipFill>
        <p:spPr>
          <a:xfrm>
            <a:off x="7162920" y="1447920"/>
            <a:ext cx="1662120" cy="91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Brief History of e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arliest mention of eBooks was in mid-2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century science fiction boo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eated with early word processing softwa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hared after the beginning of the Intern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arly eBooks were written for specialty areas and limited audien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Gutenberg- 197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ew technologies produced numerous formats– 1980’s and 1990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elivery of eBooks in accessible formats in the late 1990’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ject Gutenbe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ldest digital libr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rgest source of out-of-copyright e-tex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st items in its collection are the full texts of public domain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5,000 books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ousands of volunteers built the coll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 million e-books downloaded every mon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e-texts can be downloaded free of char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Content Placeholder 3" descr="Project Gutenberg.jpg"/>
          <p:cNvPicPr/>
          <p:nvPr/>
        </p:nvPicPr>
        <p:blipFill>
          <a:blip r:embed="rId1"/>
          <a:stretch/>
        </p:blipFill>
        <p:spPr>
          <a:xfrm>
            <a:off x="533520" y="380880"/>
            <a:ext cx="1495440" cy="8668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4114800" y="5943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gutenber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2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tegories of e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ght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Aesop’s Fables, nursery rhymes, fairy t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avy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Hamlet, Moby Di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almana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3" descr="Project Gutenberg.jpg"/>
          <p:cNvPicPr/>
          <p:nvPr/>
        </p:nvPicPr>
        <p:blipFill>
          <a:blip r:embed="rId1"/>
          <a:stretch/>
        </p:blipFill>
        <p:spPr>
          <a:xfrm>
            <a:off x="533520" y="380880"/>
            <a:ext cx="1495440" cy="8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ccess to e-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in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diobook (both computer-generated and human-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gg Vorbis Au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le iTunes Audio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P3 Au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ex Au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u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3" descr="Project Gutenberg.jpg"/>
          <p:cNvPicPr/>
          <p:nvPr/>
        </p:nvPicPr>
        <p:blipFill>
          <a:blip r:embed="rId1"/>
          <a:stretch/>
        </p:blipFill>
        <p:spPr>
          <a:xfrm>
            <a:off x="7315200" y="380880"/>
            <a:ext cx="1495440" cy="8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85840" y="3506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nyBooks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Books in the public dom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eTexts from Project Guten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veral search options: author, title, categories, langu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nks for New Additions, Popular Titles, and eBook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formats available, including large print pdf and r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manybooks.gif"/>
          <p:cNvPicPr/>
          <p:nvPr/>
        </p:nvPicPr>
        <p:blipFill>
          <a:blip r:embed="rId1"/>
          <a:stretch/>
        </p:blipFill>
        <p:spPr>
          <a:xfrm>
            <a:off x="762120" y="533520"/>
            <a:ext cx="2705040" cy="609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4419720" y="59436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manybooks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w Vision Clas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lassic eBooks in the public doma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Web-based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ustomizable displa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per and ink col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nt hei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a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rg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ust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ookma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elpful for low vision rea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Content Placeholder 4" descr="Low Vision Classics.gif"/>
          <p:cNvPicPr/>
          <p:nvPr/>
        </p:nvPicPr>
        <p:blipFill>
          <a:blip r:embed="rId1"/>
          <a:stretch/>
        </p:blipFill>
        <p:spPr>
          <a:xfrm>
            <a:off x="7086600" y="609480"/>
            <a:ext cx="1401840" cy="6098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2988000" y="5943600"/>
            <a:ext cx="53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classicbookshelf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506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merican Printing House for the Bli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ouis Database of Accessible Materials for People who are Blind or Visually Impai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ntains information on 200,000 titles in accessible formats including braille, large print, sound recording, and electronic fi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ntains over 4,500 downloadable electronic files available for use in braille 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counts are available only to authorized ent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ntact PaTTAN Production Services for requ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Louis database.jpg"/>
          <p:cNvPicPr/>
          <p:nvPr/>
        </p:nvPicPr>
        <p:blipFill>
          <a:blip r:embed="rId1"/>
          <a:stretch/>
        </p:blipFill>
        <p:spPr>
          <a:xfrm>
            <a:off x="6781680" y="609480"/>
            <a:ext cx="1676520" cy="551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5417280" y="609588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aph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2320" y="350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cessible Book Col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llection of high interest/low reading level digital tex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1/3 of collection devoted to elementary level; 1/3 to middle school; 1/3 to high scho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XHTML formatted tex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screen magnification or screen reader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 with text to speech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chan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ze, color, and spacing of all e-boo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pyrighted eBooks available to individuals with documented print dis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nual subscription f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Content Placeholder 3" descr="AccessableBookCollection.jpg"/>
          <p:cNvPicPr/>
          <p:nvPr/>
        </p:nvPicPr>
        <p:blipFill>
          <a:blip r:embed="rId1"/>
          <a:stretch/>
        </p:blipFill>
        <p:spPr>
          <a:xfrm>
            <a:off x="685800" y="380880"/>
            <a:ext cx="1038240" cy="838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004480" y="6019920"/>
            <a:ext cx="64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accessiblebookcollection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lex Catalogue of Electronic Tex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lection of public domain documents from American literature, English literature, and Western philoso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4,000 public domain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arch by author or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ML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ontent Placeholder 3" descr="Alex Catalogue.gif"/>
          <p:cNvPicPr/>
          <p:nvPr/>
        </p:nvPicPr>
        <p:blipFill>
          <a:blip r:embed="rId1"/>
          <a:stretch/>
        </p:blipFill>
        <p:spPr>
          <a:xfrm>
            <a:off x="457200" y="457200"/>
            <a:ext cx="66204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060440" y="571500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infomotions.com/ale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142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aille Book 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fers books at all grade levels that are submitted by teachers and transcri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te is maintained  by Texas School for the Blind and Visually Impa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ess is password-protected and limited to individuals with a print disability or to nonprofit organizations serving these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merous format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Braille Book Files.gif"/>
          <p:cNvPicPr/>
          <p:nvPr/>
        </p:nvPicPr>
        <p:blipFill>
          <a:blip r:embed="rId1"/>
          <a:stretch/>
        </p:blipFill>
        <p:spPr>
          <a:xfrm>
            <a:off x="1066680" y="609480"/>
            <a:ext cx="955800" cy="8384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2687760" y="6019920"/>
            <a:ext cx="60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tsbvi.edu/braille/index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assic Rea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fers fiction, nonfiction, children’s literature, plays, short stories, poetry, Greek and Roman classics, and author biograph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464 works of literature, including 1998 short sto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ull unabridged ver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book are in HTML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ownloads are available to registered users (registration is fre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Classic Reader.gif"/>
          <p:cNvPicPr/>
          <p:nvPr/>
        </p:nvPicPr>
        <p:blipFill>
          <a:blip r:embed="rId1"/>
          <a:stretch/>
        </p:blipFill>
        <p:spPr>
          <a:xfrm>
            <a:off x="6781680" y="380880"/>
            <a:ext cx="1200240" cy="8953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4119840" y="601992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classicread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vantages of e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essible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e and ease of nav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text files are smaller, lighter, and more portable than large print or braille volu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sier to store and ca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ven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sier on th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DL for all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85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udible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50,000 books, magazines, newspapers, podca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nabridged and abridged digital audiobooks in dozens of genres including mystery, self-development, fiction, business, comedy,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ookmark fea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ownload the audio to a computer, mobile device or MP3 play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sten immediately, transfer files to an audio player, or burn them to C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bscription-based member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Content Placeholder 3" descr="audibledotcom.gif"/>
          <p:cNvPicPr/>
          <p:nvPr/>
        </p:nvPicPr>
        <p:blipFill>
          <a:blip r:embed="rId1"/>
          <a:stretch/>
        </p:blipFill>
        <p:spPr>
          <a:xfrm>
            <a:off x="1066680" y="609480"/>
            <a:ext cx="2467080" cy="5335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4659120" y="601992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audib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rnational Electronic Brail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ook Libr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llection of over 1,000  public domain titles available in digital brai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llection includes books by many authors from different nations and cul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ad them on-line or download them to read off-line either in hard-copy braille or by loading them into devices such as braille notetak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ownload individual parts of a book, an individual book, or an entire collection of books by a specific author by selecting the appropriate links on the specified p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 search cap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l books are in BRF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4885920" y="6019920"/>
            <a:ext cx="35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braill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brivo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vides free public domain audio boo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olunteers record chapters of books in the public domain and upload the recorded fi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.mp3  and ogg vorbis forma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1550 audio boo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Listen to the audio book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a computer’s audio pl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 the files into an iPod or other portable audio pl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rn the files to an audio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4826160" y="586728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librivox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LibriVox redferret net.jpg"/>
          <p:cNvPicPr/>
          <p:nvPr/>
        </p:nvPicPr>
        <p:blipFill>
          <a:blip r:embed="rId1"/>
          <a:stretch/>
        </p:blipFill>
        <p:spPr>
          <a:xfrm>
            <a:off x="6629400" y="304920"/>
            <a:ext cx="1981080" cy="1177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umble Readabl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nline Large Print Libr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nline collection of read-along titles for elementary, middle, and high school stud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eatures adjustable online text and complete audio nar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ntences are highlighted as they are being read and the pages turn automatical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llection features chapter books, early readers, teen novels, high interest/low level books for both middle school and high school students, plus classics of American and English literat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ubscription-bas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796320" y="609588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tumblebooks.com/tumblereadable/default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tumblereadables portlandlibrary com.jpg"/>
          <p:cNvPicPr/>
          <p:nvPr/>
        </p:nvPicPr>
        <p:blipFill>
          <a:blip r:embed="rId1"/>
          <a:stretch/>
        </p:blipFill>
        <p:spPr>
          <a:xfrm>
            <a:off x="457200" y="380880"/>
            <a:ext cx="990720" cy="102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umble Talking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 online audio book library collection of streaming audio books for public libraries and schoo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Unabridged high quality audio versions of classics of American and world literature, non-fiction, fiction, plays, drama, and children and teen boo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llection includes 65 Read-Along titles which combine large print online text with complete unabridged nar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ookmarking feat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ubscription-bas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996480" y="5943600"/>
            <a:ext cx="74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tumblebooks.com/talkingbooks/default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tumblereadables portlandlibrary com.jpg"/>
          <p:cNvPicPr/>
          <p:nvPr/>
        </p:nvPicPr>
        <p:blipFill>
          <a:blip r:embed="rId1"/>
          <a:stretch/>
        </p:blipFill>
        <p:spPr>
          <a:xfrm>
            <a:off x="7543800" y="457200"/>
            <a:ext cx="1027080" cy="1066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776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4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lection has 2,000 books, stories, poems, plays, religious and historical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ML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ers can read online at no charge or purchase the collection for $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easily search for books from web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4literature.jpg"/>
          <p:cNvPicPr/>
          <p:nvPr/>
        </p:nvPicPr>
        <p:blipFill>
          <a:blip r:embed="rId1"/>
          <a:stretch/>
        </p:blipFill>
        <p:spPr>
          <a:xfrm>
            <a:off x="838080" y="380880"/>
            <a:ext cx="1524240" cy="12528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3887280" y="594360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4literatur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age by Pag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ndreds of free classic books in the public domain, inclu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ed State historical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sidential inaugural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oks can be read online one page at a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er can also navigate by chap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Content Placeholder 3" descr="pagebypage.gif"/>
          <p:cNvPicPr/>
          <p:nvPr/>
        </p:nvPicPr>
        <p:blipFill>
          <a:blip r:embed="rId1"/>
          <a:stretch/>
        </p:blipFill>
        <p:spPr>
          <a:xfrm>
            <a:off x="6248520" y="762120"/>
            <a:ext cx="241596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2839320" y="5791320"/>
            <a:ext cx="56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pagebypageboo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3848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iflolibr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rst digital library for Spanish-speaking bli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llection includes 20,000 digital books in Span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ailable to individuals with a documented print disabilit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ooks are downloaded using a personal passw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3594960" y="541008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tiflolibros.com.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Tiflolibros.jpg"/>
          <p:cNvPicPr/>
          <p:nvPr/>
        </p:nvPicPr>
        <p:blipFill>
          <a:blip r:embed="rId1"/>
          <a:stretch/>
        </p:blipFill>
        <p:spPr>
          <a:xfrm>
            <a:off x="990720" y="380880"/>
            <a:ext cx="2533680" cy="1067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tional Credits and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ible Devices. (2006). Web Sites Offering Online Source for Book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ed Sources for Electronic Tex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6, 2008, from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accessible-devices.com/electronicbooks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erican Foundation for the Blind. (2008). Accessible Textbooks: A Glossary of Commonly User Term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B: Expanding possibilities for people with vision l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6, 2008, from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afb.org/Section.asp?SectionID=4&amp;TopicID=222&amp;DocumentID=3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dges4Kids. (2008). Bookshare.org: Membership Driven Site That Offers Electronic Book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dges4kids: Building partnerships between families, schools, and commun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24, 2008, from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bridges4kids.org/articles/12-03/Bookshare12-03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tional Credits and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er for Applied Special Technology (CAST). (2008). Digital Talking Book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MAS at C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8, 2008, from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nimas.cast.org/about/resources/dtb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er for Applied Special Technology (CAST). (2008). Accessible Textbooks in the Classroom: An Educator's Guide to the Acquisition of Alternate Format Core Learning Materials for PreK-12 Students with Print Disabilitie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MAS at C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7, 2008, from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nimas.cast.org/about/resources/accessible-textboo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isy Consortium. (2008). Technology Overview: What is a DTB?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is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8, 2008,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daisy.org/about_us/dtbooks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esner, A. (2004). Finding eBooks on the Internet. Boston: National Braille Pr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e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brai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a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ercial 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ebookmerchant com.jpg"/>
          <p:cNvPicPr/>
          <p:nvPr/>
        </p:nvPicPr>
        <p:blipFill>
          <a:blip r:embed="rId1"/>
          <a:stretch/>
        </p:blipFill>
        <p:spPr>
          <a:xfrm>
            <a:off x="5486400" y="1676520"/>
            <a:ext cx="146844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Sony reader pocketnow com.jpg"/>
          <p:cNvPicPr/>
          <p:nvPr/>
        </p:nvPicPr>
        <p:blipFill>
          <a:blip r:embed="rId2"/>
          <a:stretch/>
        </p:blipFill>
        <p:spPr>
          <a:xfrm>
            <a:off x="914400" y="4419720"/>
            <a:ext cx="1905120" cy="1757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refreshable braille display flickr com.jpg"/>
          <p:cNvPicPr/>
          <p:nvPr/>
        </p:nvPicPr>
        <p:blipFill>
          <a:blip r:embed="rId3"/>
          <a:stretch/>
        </p:blipFill>
        <p:spPr>
          <a:xfrm>
            <a:off x="5867280" y="4267080"/>
            <a:ext cx="2652840" cy="2000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tional Credits and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s Cavanaugh Educational Technology. (2006). Accommodations for Readin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ology &amp; Reading eBooks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6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drscavanaugh.org/ebooks/accommodations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s Cavanaugh Educational Technology. (2006). eBooks: A Brief History of the eBook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ology &amp; Reading eBooks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 Retrieved July 24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drscavanaugh.org/ebooks/timeline/history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s. Cavanaugh. (2006). Online eBook Librarie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ology &amp; Reading eBooks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8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drscavanaugh.org/ebooks/libraries/ebook_libraries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vage, C., Cirenza, D., Strange, J. (2007, September). Accessible Online Book Sources. Retrieved July 24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infoeyes.org/inforeyespres.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tional Credits and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 Tech Associates. (2005). eBooks, eTexts &amp; Reader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istive technology consulting for learning disab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7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edtech-associates.com/ebooks-etexts-and-readers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igital Products. (2008). Benefits &amp; Advantages of eBook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igitalproduct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7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idigitalproducts.com/article1.php?id=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D Online. (2008). Making the Written Word Easier for Readers with Print Disabilitie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Center for Technology Innovation &amp; Center for Implementing Technology in Education (200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24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ldonline.org/article/230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house International. (2008). Sources for Online Book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ible technology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d July 16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lighthouse.org/accessibility/accessible-technology/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tional Credits and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 eBook Design (2008). e-Book History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6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myebookdesign.com/History-Of-E-Book-Design.as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ce, P. (2007). Interview with Jim Fuchterman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uture of Bookshare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[Electronic text file]. Text Summary Archive of Book Clubs Page: Friends of Booksha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as AT Conference. (2008). Bookshare.org for Education &amp; Texas - June 23-25, 2008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as Assistive Technology Regional Conference 200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trieved July 24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texasatconference.net/bookshare.conf.NIMAS.pd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versity of South Carolina. (2008). Web Toolboxes: Free Tool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versity of South Carolina College of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7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ed.sc.edu/caw/toolboxfre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ages obtained from Google images: http://images.google.com/imghp?hl=en&amp;tab=w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gital Brai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aille in electronic 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aille Ready Files (BRF) are ready to emboss into hard-copy braille or to use with an electronic notetaker, such as a BrailleNo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in braille format can be directly read with a refreshable braille de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F files can be read using specialized scanning/reading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gital A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gital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cessibl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formatio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tem (DAIS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universal standard format for reading and publishing digital talking 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quires special digital player or softw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veral form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mercial audio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ny players available (e.g., Amazon Kindle, SONY Rea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duced for mass mar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AISY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xt-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dio-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xt and au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gital audio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d-up file containing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vigation control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Plextalk at Freedom Scientific com.jpg"/>
          <p:cNvPicPr/>
          <p:nvPr/>
        </p:nvPicPr>
        <p:blipFill>
          <a:blip r:embed="rId1"/>
          <a:stretch/>
        </p:blipFill>
        <p:spPr>
          <a:xfrm>
            <a:off x="6248520" y="1676520"/>
            <a:ext cx="2050920" cy="1600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vantages of DAISY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ve between headings and between different levels in the b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Go to any page you search f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arch for words found in the headings of the b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lace bookmarks in the tex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ke notes in text (text and voice not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crease or decrease rate of spee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Gain access to many hours of recorded spee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ne DAISY book (or more) can be contained on one 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09:05:24Z</dcterms:created>
  <dc:creator>Karen Narvol</dc:creator>
  <dc:description/>
  <dc:language>en-US</dc:language>
  <cp:lastModifiedBy>Karen Narvol</cp:lastModifiedBy>
  <dcterms:modified xsi:type="dcterms:W3CDTF">2008-08-24T20:51:54Z</dcterms:modified>
  <cp:revision>416</cp:revision>
  <dc:subject/>
  <dc:title>The Potential of Electronic Books for Students with Visual Impairments</dc:title>
</cp:coreProperties>
</file>